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F4A-3429-42B1-B529-A2BFA5AA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963-4FFB-4EDF-8F71-BED529AD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D6B-ED5A-46EB-BC40-DE21C2BE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AC4-C646-4F07-BC7F-2DEC1B75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DC01-8559-469A-B4B7-1EFF5129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C748-E390-4ACE-84C1-C80A4658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1D80-C844-466A-B068-ACE8F2BD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9DFD-E711-4150-A975-10136C70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801F-8CBB-46B1-BCFB-E1C9AFA0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3563-8CC0-4B56-B4BE-D6111054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B3B9-4BE2-4272-A635-82F7F47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E86-5EBB-4205-B9CD-859C2F33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D02B-B05B-4A8D-B269-29BD3B17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B209-0423-4CE0-95EF-5A58AE1E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5B35-D336-4417-98A5-603373EB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98D9-5B23-463F-B882-80DFD7F9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FEDE-1B4A-44C9-959D-338BBBD8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8A263-3883-4484-9001-75AEA7EF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F963-2CD7-4E10-A070-AF5B299C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D837-8F62-4D2D-944F-00C05D51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3726-5972-4803-8F1A-22E5E603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CECB-E4CE-4E30-8674-162321D0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57D-BEE2-4793-88CF-CCEE6927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03F4-0A65-476C-A62D-35BC5DA2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85C7-9736-474C-B37E-1316C1DA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E5DA-E760-4F7B-B0D3-B4CBB98C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743F-99AE-4F4E-AC32-F660F72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B354-88F0-47F3-9160-94800DF8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EEE5-19CE-4F73-807D-B83627D7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56006-EFFB-42B9-B6F2-1598948E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4A51-7DB4-4DF7-A532-06E094BF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6375-731F-4F8E-A916-02C84AF9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D9F0-31C7-4E8A-8970-B80E7CF9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DF6-637B-438E-8508-DD6C0BF5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02772-E94F-4BBB-AB1A-1B39D256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2D1ED-7ED9-41EC-B61D-3020BC14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1121-46F9-4DB6-8C4D-22870814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20B9-3D55-4748-80C5-653884D4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7A39-5111-4F11-8297-465BBB37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B0B15-5765-4526-BE8B-5EE46876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B7AC3-F980-4FCC-A7D4-37B6A4F8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9804-BA0D-4359-A839-98983456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6EA6-B283-4E24-B0E2-E61D96DA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5E702-A485-4422-8835-657504C9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687-7D1A-4B9C-8374-FE64D1DF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08C4F-C4AB-4791-BA3A-3F5860D8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167AF-48A9-4531-A45A-4DF5322E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4364-C961-48E2-9B82-48A5E35B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F6438-F6D3-4D93-8C6A-A9821C39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96237-629B-4CC2-B74C-922D238D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0022E-5F08-4175-B97F-78BC6E2E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3CFB7-E101-4DAB-8EEB-211917A5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AAA76-304D-49DD-B650-8C609C5F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D9826-A34E-47CF-947F-A93EA228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53B00-685E-4398-BE02-17700F45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56F-730B-438C-AD1E-155278F2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5D44D-699D-49FF-BF22-10E16238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4D56-1731-4795-AD3D-0304E475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97907-146B-480F-8987-02E49ACE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17409-C09F-497E-B60C-20D276FF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6751D-2FD1-4D88-A45E-A858E7CC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80462-6EE3-4BC9-8DA3-8573D6B7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54D2A-41C1-4285-A752-9B7D5E52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FC725-2D4F-44A0-BDCD-BAB599B6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88646-F741-47C7-B7F4-A9D97688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DF69A-76D5-4B2F-9AF1-3BA1A3E0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EA2-5D17-4A8F-BD16-79B99DF5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D2025-F17E-4B91-9EC8-5D402BE7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B296B-FAD4-4253-98A1-8C5DFB1A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B48D9-FC67-4FEC-8A9B-E916B6B1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F6640-8BDC-4F8C-B239-D8879C38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8A492-4295-421F-BE48-AAF2EA0D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8FFE5-83FF-4AA2-A1DC-1B113677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D02DD-38C2-42EF-B080-6174CA09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39556-25F7-497A-8627-CBD65B32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6CE4-D5C8-4A40-A769-7596D7C7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6520F-D62C-422A-9783-5C788AD3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766-087F-48F1-A4BB-42C1348D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DA194-5677-4F91-8234-D1257F7B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54770-A735-4070-9849-C3E941A7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17DEB-269D-4FD7-8E1B-8E352E6F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343D5-4671-4F8E-8F98-872DC217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BBC19-EB93-48D8-8968-12C598FB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605B2-DA95-45CD-94BA-4245E4E9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704ED-3E3B-4350-8A49-DAFFF22F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435CB-CC51-4F99-A198-4A7E6ED4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9F5BE-B96A-4E99-84A6-314D9C69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17454-A8F5-4C5C-9111-28164FF8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F3C-8288-4330-AD84-BE17D4C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7E7AF-5CF6-4489-BDAA-3A090D12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38B13-6BC5-4C2A-BABF-8E35D96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AFEA9-B18A-4F57-8FE3-C86CB246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CCDF7-F10A-401F-BF9B-227D296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F6CA0-7700-44C8-9189-55F5242E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B5047-FB85-49F4-8774-FD3A24F7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DA6E7-3A0F-4764-AB48-743F41A9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cbd4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44d2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8F97-665F-4529-9B56-25379ADB254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67851"/>
              </a:gs>
              <a:gs pos="50000">
                <a:srgbClr val="b1c59a"/>
              </a:gs>
              <a:gs pos="100000">
                <a:srgbClr val="667851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cbd4c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44d2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F430-2186-400D-8C47-765B78A3D31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cbd4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839370"/>
              </a:gs>
              <a:gs pos="100000">
                <a:srgbClr val="c0ceb0"/>
              </a:gs>
            </a:gsLst>
            <a:lin ang="16200000"/>
          </a:gradFill>
          <a:ln cap="rnd" w="3240">
            <a:solidFill>
              <a:srgbClr val="78846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839370"/>
              </a:gs>
              <a:gs pos="100000">
                <a:srgbClr val="c0ceb0"/>
              </a:gs>
            </a:gsLst>
            <a:lin ang="16200000"/>
          </a:gradFill>
          <a:ln cap="rnd" w="3240">
            <a:solidFill>
              <a:srgbClr val="78846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efa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efac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E6A4-C83A-482E-BBBE-BACDC15543C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cbd4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efa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efac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F97B-8A03-4FC4-88B1-0B53E23088F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44d2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D8B7-229E-400D-A06B-4D369728AFE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cbd4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efa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efac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A87D-7936-4523-88E5-43AF295576C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44d2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7061-A548-403A-8217-0F23306718E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cbd4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839370"/>
              </a:gs>
              <a:gs pos="100000">
                <a:srgbClr val="c0ceb0"/>
              </a:gs>
            </a:gsLst>
            <a:lin ang="16200000"/>
          </a:gradFill>
          <a:ln cap="rnd" w="3240">
            <a:solidFill>
              <a:srgbClr val="78846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839370"/>
              </a:gs>
              <a:gs pos="100000">
                <a:srgbClr val="c0ceb0"/>
              </a:gs>
            </a:gsLst>
            <a:lin ang="16200000"/>
          </a:gradFill>
          <a:ln cap="rnd" w="3240">
            <a:solidFill>
              <a:srgbClr val="78846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efa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efac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FBAC-C7FB-4692-A86C-F00A7027826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hannelview.isd.esc4.net/technology/PDF/office2007.pdf" TargetMode="External"/><Relationship Id="rId3" Type="http://schemas.openxmlformats.org/officeDocument/2006/relationships/hyperlink" Target="http://www.channelview.isd.esc4.net/technology/PDF/office2007saving.pdf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What’s New - Exce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5176800" cy="561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3"/>
          <a:stretch/>
        </p:blipFill>
        <p:spPr>
          <a:xfrm>
            <a:off x="457200" y="3009960"/>
            <a:ext cx="4334040" cy="561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"/>
          <p:cNvPicPr/>
          <p:nvPr/>
        </p:nvPicPr>
        <p:blipFill>
          <a:blip r:embed="rId4"/>
          <a:stretch/>
        </p:blipFill>
        <p:spPr>
          <a:xfrm>
            <a:off x="457200" y="4038480"/>
            <a:ext cx="5448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item on ribbon to display explanation/defin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2886120" cy="2095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2857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Content Placeholder 2"/>
          <p:cNvSpPr/>
          <p:nvPr/>
        </p:nvSpPr>
        <p:spPr>
          <a:xfrm>
            <a:off x="457200" y="1295280"/>
            <a:ext cx="82296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part of standard ribbon ta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 only when object on page is double click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ontent Placeholder 2"/>
          <p:cNvSpPr/>
          <p:nvPr/>
        </p:nvSpPr>
        <p:spPr>
          <a:xfrm>
            <a:off x="762120" y="28954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ple: Chart 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0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6891480" cy="676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"/>
          <p:cNvPicPr/>
          <p:nvPr/>
        </p:nvPicPr>
        <p:blipFill>
          <a:blip r:embed="rId3"/>
          <a:stretch/>
        </p:blipFill>
        <p:spPr>
          <a:xfrm>
            <a:off x="2471760" y="5410080"/>
            <a:ext cx="5257800" cy="666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2" descr=""/>
          <p:cNvPicPr/>
          <p:nvPr/>
        </p:nvPicPr>
        <p:blipFill>
          <a:blip r:embed="rId4"/>
          <a:stretch/>
        </p:blipFill>
        <p:spPr>
          <a:xfrm>
            <a:off x="971640" y="4462560"/>
            <a:ext cx="67579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format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to se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not chang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at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apply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403848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xt formatting toolbar displays on right cli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32101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212840" y="6480"/>
            <a:ext cx="8089920" cy="9936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2193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What’s New - Exce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380880" y="1981080"/>
            <a:ext cx="82296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larger worksheet area – more rows and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columns vi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more styles, themes, col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easier formulas and calculation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457200" y="1481040"/>
          <a:ext cx="8229600" cy="1490760"/>
        </p:xfrm>
        <a:graphic>
          <a:graphicData uri="http://schemas.openxmlformats.org/drawingml/2006/table">
            <a:tbl>
              <a:tblPr/>
              <a:tblGrid>
                <a:gridCol w="4724280"/>
                <a:gridCol w="350532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97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x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xls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  <p:sp>
        <p:nvSpPr>
          <p:cNvPr id="377" name="TextBox 13"/>
          <p:cNvSpPr/>
          <p:nvPr/>
        </p:nvSpPr>
        <p:spPr>
          <a:xfrm>
            <a:off x="533520" y="3657600"/>
            <a:ext cx="7924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olving Common Convers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9d3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Office 2007 Converter = </a:t>
            </a:r>
            <a:r>
              <a:rPr b="0" lang="en-US" sz="1800" spc="-1" strike="noStrike" u="sng">
                <a:solidFill>
                  <a:srgbClr val="8e58b6"/>
                </a:solidFill>
                <a:uFillTx/>
                <a:latin typeface="Lucida Sans Unicode"/>
                <a:hlinkClick r:id="rId2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9d3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aving as Lower Version = </a:t>
            </a:r>
            <a:r>
              <a:rPr b="0" lang="en-US" sz="1800" spc="-1" strike="noStrike" u="sng">
                <a:solidFill>
                  <a:srgbClr val="8e58b6"/>
                </a:solidFill>
                <a:uFillTx/>
                <a:latin typeface="Lucida Sans Unicode"/>
                <a:hlinkClick r:id="rId3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9" descr=""/>
          <p:cNvPicPr/>
          <p:nvPr/>
        </p:nvPicPr>
        <p:blipFill>
          <a:blip r:embed="rId4"/>
          <a:srcRect l="20447" t="20674" r="15041" b="19564"/>
          <a:stretch/>
        </p:blipFill>
        <p:spPr>
          <a:xfrm>
            <a:off x="2743200" y="2133720"/>
            <a:ext cx="571680" cy="523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0" descr=""/>
          <p:cNvPicPr/>
          <p:nvPr/>
        </p:nvPicPr>
        <p:blipFill>
          <a:blip r:embed="rId5"/>
          <a:stretch/>
        </p:blipFill>
        <p:spPr>
          <a:xfrm>
            <a:off x="1600200" y="2133720"/>
            <a:ext cx="638280" cy="533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1" descr="xlsx"/>
          <p:cNvPicPr/>
          <p:nvPr/>
        </p:nvPicPr>
        <p:blipFill>
          <a:blip r:embed="rId6"/>
          <a:stretch/>
        </p:blipFill>
        <p:spPr>
          <a:xfrm>
            <a:off x="6858000" y="2133720"/>
            <a:ext cx="5526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2743200" cy="315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5181480" cy="2139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2209320"/>
            <a:ext cx="144792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20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Content Placeholder 2"/>
          <p:cNvSpPr/>
          <p:nvPr/>
        </p:nvSpPr>
        <p:spPr>
          <a:xfrm>
            <a:off x="4952880" y="4724280"/>
            <a:ext cx="19814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eviou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ver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more drop down me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p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fice Butt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Toolba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20480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44d26"/>
                </a:solidFill>
                <a:latin typeface="Lucida Sans Unicode"/>
              </a:rPr>
              <a:t>Office Butt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ontent Placeholder 2"/>
          <p:cNvSpPr/>
          <p:nvPr/>
        </p:nvSpPr>
        <p:spPr>
          <a:xfrm>
            <a:off x="457200" y="2057400"/>
            <a:ext cx="44956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laces “File” me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480060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s common tas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customiz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5434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ribbon tab for type of command you wish to perfo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de/Display Ribb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TRL+F1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menu comma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6513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7829640" cy="571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"/>
          <p:cNvPicPr/>
          <p:nvPr/>
        </p:nvPicPr>
        <p:blipFill>
          <a:blip r:embed="rId3"/>
          <a:stretch/>
        </p:blipFill>
        <p:spPr>
          <a:xfrm>
            <a:off x="609480" y="2589120"/>
            <a:ext cx="4595760" cy="571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"/>
          <p:cNvPicPr/>
          <p:nvPr/>
        </p:nvPicPr>
        <p:blipFill>
          <a:blip r:embed="rId4"/>
          <a:stretch/>
        </p:blipFill>
        <p:spPr>
          <a:xfrm>
            <a:off x="609480" y="3654360"/>
            <a:ext cx="4957920" cy="576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"/>
          <p:cNvPicPr/>
          <p:nvPr/>
        </p:nvPicPr>
        <p:blipFill>
          <a:blip r:embed="rId5"/>
          <a:stretch/>
        </p:blipFill>
        <p:spPr>
          <a:xfrm>
            <a:off x="609480" y="4724280"/>
            <a:ext cx="57009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20:15:27Z</dcterms:created>
  <dc:creator>Dina Rich</dc:creator>
  <dc:description/>
  <dc:language>en-US</dc:language>
  <cp:lastModifiedBy>Dina Rich</cp:lastModifiedBy>
  <dcterms:modified xsi:type="dcterms:W3CDTF">2010-05-17T13:52:32Z</dcterms:modified>
  <cp:revision>43</cp:revision>
  <dc:subject/>
  <dc:title>Office 2007</dc:title>
</cp:coreProperties>
</file>